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9CDE-5F37-45FB-983B-ECF2598A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12FD-5078-4A8A-BA8A-CF28E15D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B62B-66B9-4357-9F7B-D9B99D28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AA04-0595-4A77-A0CA-D720277C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5B54-3ED2-4F27-9EB2-68D91473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81F3-6ED9-4732-95A6-A81EEA2A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EEAE-5849-4670-9071-9FB679EC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07CD-D330-4442-AF6D-7099F447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DE9E-E36D-4DA2-9205-47D959F3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453A-242B-4B8A-BD20-FC73D304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0EEB-5D7A-4415-A6CB-B429D0A4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5C52-C4B9-485C-9F74-80E2A934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EBE9-3560-49F1-9AE1-867E70D4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7CF4-FD2E-41EC-9414-2D01CB6D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28F6-F580-4E94-B8CB-9398D819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43FE-D580-4F32-B58D-6AFDA4DF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509B-CCEA-44B5-BE5E-D1227F0E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B929F-418A-48AF-A406-5334C243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F5B01-0956-4AB7-AF3F-F75B4E6B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057A4A-385E-4B75-8C02-1DBD6BE4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249698-D327-4E55-A0C4-053D51D9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F37BA-876A-49DF-8F06-8451ED69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9CCC-21FD-4439-8FC0-7BC760D8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C609B-CDCD-433B-84FA-D1A3FC2D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1B1F3C-1B98-4C7B-981B-CBBD4A2D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20B818-E305-4E12-8D47-5FA10F9E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3D4E41-94B2-49D1-9284-C2C0C293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E2632C-459E-4089-B9D4-C61B1A1F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7A47D3-602A-418B-A2AF-42897DD4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0D76CE-DC2A-4588-9395-E75E2DE3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80F209-A3AC-44A6-9583-F096287C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071B7D-31FD-4A21-AD25-41946499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79DB79-98D4-49C5-9051-8C6F06A1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8775-1E15-4271-AEAB-8EE8CDF1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F7EF4A-BF33-4F2A-B0F5-0C6E6F30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456539-FF93-494A-B6E4-0485726E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87E981-D9BA-474D-86DF-3621FD5C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0613F4-416D-47EE-B364-F61F4327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65DB87-4AA3-4F0C-AF09-7A78030B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0CDE9D-8C29-45AC-B7D5-34CAEB1E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F61DD5-5449-4C26-BD47-D5829286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0BE5C5-FB6C-46DC-89D6-A1D7D08A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25E64F-438F-4B55-98BF-C0FB1533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9A6C8E-378D-494C-A503-C971487D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A29B-5F40-40E5-9E6D-F0889860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0F5F70-BB3E-4C0A-8028-1E62B751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035D0A-D0CC-4090-8DD1-5AF8A83E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45327B-2BA9-4E27-A65C-B6E4D17B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ECAFCC-7B1E-489C-8AF8-FF7CFE91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96E262-B28C-4E49-8FB4-DC7446A4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CA7C73-4792-4405-89BD-78BB4E56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40E1B6-A4FF-45D2-9DE6-2318B990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C4CC3D-332D-49C1-9155-2108F169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6D10C0-13D8-40B1-899E-89763ACC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0584EE-0CA8-4AF2-BFBA-20D7607E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8D6E-766F-4310-B6E7-5109F148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A1DFC6-A678-4E6C-AB16-850FC4C0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91622-C47A-443D-A116-7F1595D9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1FA80-380F-44C9-B73F-A89835C5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E9381-50BF-4039-84ED-76E18954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2E152-1561-4BD5-BD70-049E3689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E1BE9-581E-47C2-B83C-4FD61FE7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7EB9C-4A3D-462A-807B-7FA72960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43506-A679-4C55-9B1B-17BFEEC2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2B714-2BA1-4C21-B1F4-170D0032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D4D8D-6845-4314-AA01-3B1F1C63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E19B-F8E9-4CA7-9E12-A466F516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163BA-3F76-46ED-AE22-1C9DBF8A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09262-F94B-4BFC-8D4B-1EA0B240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82BA2-92CC-4892-9400-73C287A5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E3D2BE-0BAA-4237-AB3B-8C31F56D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665253-A334-453F-B949-F51F0090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EFB4FF-304D-46C8-BD72-46DE715B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EAE067-BFAC-4FAE-8F33-D946F917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45F414-0137-478F-9190-5F441637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DB8B69-AF93-4B4E-8805-4DB0F4EA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5B638C-A57D-497D-B14B-E1C29C88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B3B3-2DFA-403B-8E20-A90FD845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5D4D0E-D151-4948-A1C0-838FBB3D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4CF5A4-8BA9-4A2D-9548-4BE3EB20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D32633-3FDB-434A-8E02-9DBB4529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03B081-B21B-41B9-BFCC-2170DA1A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855B9A-2AA5-4712-A7FB-41BB6154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BEC2B-2EDC-41F4-BB0B-861A4C60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442F5-DB0E-475E-9A1C-E8CA6E61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A389E-8DF1-43A9-82A0-37C08B8E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85606-AC8E-4D3E-9EE6-52AC401C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EB79F-9DF2-4A82-BB84-33CE96B5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826C-5342-45A3-9091-3E012E3D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F5193-1007-4DDA-AFE9-F959E8F8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F2CA9-C144-4392-BDC1-B6FCC132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CC488-0320-42C9-9F0C-2D2F2DA5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834E5-1786-448B-8394-7D9732CB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6438C-5F6D-4096-A2E9-66CA137D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95396-1667-4C3D-BB0A-7487E4EF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E13C6-6B49-489A-8CDB-D62E50D4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0138-749F-43A9-BE2F-3837E2373A5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ac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CB7A-5B32-4C7D-8187-6888CAAD0213}" type="slidenum">
              <a:rPr b="1" lang="ru-RU" sz="14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EA01-B1FF-4EA8-8804-075952E34558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C770-1CFB-4757-8D36-AD76DECD04B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0FF6-6E29-41AC-A985-D93D8E829EE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1FCB-2491-4592-9163-188A90F44E61}" type="slidenum">
              <a:rPr b="1" lang="ru-RU" sz="14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6331-4407-4C92-99D0-F39BDFF997FB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9913-D1E3-4467-9A38-BFE7FF4ED10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>
                <a:solidFill>
                  <a:srgbClr val="333a1d"/>
                </a:solidFill>
                <a:latin typeface="Calibri"/>
              </a:rPr>
              <a:t>ОБ ИНФОРМАЦИОННОЙ ТЕХНОЛОГИИ ВЕДЕНИЯ ПЕРСОНИФИЦИРОВАННОГО УЧЁТА МЕДИЦИНСКОЙ ПОМОЩИ, ОКАЗАННОЙ ЗАСТРАХОВАННЫМ ЛИЦАМ</a:t>
            </a:r>
            <a:endParaRPr b="0" lang="en-US" sz="32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685440" y="41148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Нисенбойм Илья Изевич,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начальник управления информационного обеспечения ТФОМС МО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0" y="0"/>
            <a:ext cx="9144000" cy="123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4d2d"/>
                </a:solidFill>
                <a:latin typeface="Arial"/>
                <a:ea typeface="MS PGothic"/>
              </a:rPr>
              <a:t>     </a:t>
            </a:r>
            <a:r>
              <a:rPr b="1" lang="ru-RU" sz="2200" spc="-1" strike="noStrike">
                <a:solidFill>
                  <a:srgbClr val="3c4d2d"/>
                </a:solidFill>
                <a:latin typeface="Arial"/>
                <a:ea typeface="MS PGothic"/>
              </a:rPr>
              <a:t>Территориальный фонд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c4d2d"/>
                </a:solidFill>
                <a:latin typeface="Arial"/>
                <a:ea typeface="MS PGothic"/>
              </a:rPr>
              <a:t>     </a:t>
            </a:r>
            <a:r>
              <a:rPr b="1" lang="ru-RU" sz="2200" spc="-1" strike="noStrike">
                <a:solidFill>
                  <a:srgbClr val="3c4d2d"/>
                </a:solidFill>
                <a:latin typeface="Arial"/>
                <a:ea typeface="MS PGothic"/>
              </a:rPr>
              <a:t>обязательного медицинского  страхов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c4d2d"/>
                </a:solidFill>
                <a:latin typeface="Arial"/>
                <a:ea typeface="MS PGothic"/>
              </a:rPr>
              <a:t>     </a:t>
            </a:r>
            <a:r>
              <a:rPr b="1" lang="ru-RU" sz="2200" spc="-1" strike="noStrike">
                <a:solidFill>
                  <a:srgbClr val="3c4d2d"/>
                </a:solidFill>
                <a:latin typeface="Arial"/>
                <a:ea typeface="MS PGothic"/>
              </a:rPr>
              <a:t>Московской обл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8" descr="C:\Documents and Settings\zorina\Мои документы\Мои рисунки\logo_ТФОМС МO.JPG"/>
          <p:cNvPicPr/>
          <p:nvPr/>
        </p:nvPicPr>
        <p:blipFill>
          <a:blip r:embed="rId1"/>
          <a:stretch/>
        </p:blipFill>
        <p:spPr>
          <a:xfrm>
            <a:off x="7467480" y="33480"/>
            <a:ext cx="1298520" cy="1109520"/>
          </a:xfrm>
          <a:prstGeom prst="rect">
            <a:avLst/>
          </a:prstGeom>
          <a:ln w="0">
            <a:noFill/>
          </a:ln>
        </p:spPr>
      </p:pic>
      <p:sp>
        <p:nvSpPr>
          <p:cNvPr id="369" name="TextBox 5"/>
          <p:cNvSpPr/>
          <p:nvPr/>
        </p:nvSpPr>
        <p:spPr>
          <a:xfrm>
            <a:off x="5260320" y="63244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4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>
                <a:solidFill>
                  <a:srgbClr val="333a1d"/>
                </a:solidFill>
                <a:latin typeface="Calibri"/>
              </a:rPr>
              <a:t>ОБ ИНФОРМАЦИОННОЙ ТЕХНОЛОГИИ ВЕДЕНИЯ ПЕРСОНИФИЦИРОВАННОГО УЧЁТА МЕДИЦИНСКОЙ ПОМОЩИ, ОКАЗАННОЙ ЗАСТРАХОВАННЫМ ЛИЦАМ</a:t>
            </a:r>
            <a:endParaRPr b="0" lang="en-US" sz="32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685440" y="41148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Нисенбойм Илья Изевич,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начальник управления информационного обеспечения ТФОМС МО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Text Box 11"/>
          <p:cNvSpPr/>
          <p:nvPr/>
        </p:nvSpPr>
        <p:spPr>
          <a:xfrm>
            <a:off x="0" y="0"/>
            <a:ext cx="9144000" cy="123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4d2d"/>
                </a:solidFill>
                <a:latin typeface="Arial"/>
                <a:ea typeface="MS PGothic"/>
              </a:rPr>
              <a:t>     </a:t>
            </a:r>
            <a:r>
              <a:rPr b="1" lang="ru-RU" sz="2200" spc="-1" strike="noStrike">
                <a:solidFill>
                  <a:srgbClr val="3c4d2d"/>
                </a:solidFill>
                <a:latin typeface="Arial"/>
                <a:ea typeface="MS PGothic"/>
              </a:rPr>
              <a:t>Территориальный фонд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c4d2d"/>
                </a:solidFill>
                <a:latin typeface="Arial"/>
                <a:ea typeface="MS PGothic"/>
              </a:rPr>
              <a:t>     </a:t>
            </a:r>
            <a:r>
              <a:rPr b="1" lang="ru-RU" sz="2200" spc="-1" strike="noStrike">
                <a:solidFill>
                  <a:srgbClr val="3c4d2d"/>
                </a:solidFill>
                <a:latin typeface="Arial"/>
                <a:ea typeface="MS PGothic"/>
              </a:rPr>
              <a:t>обязательного медицинского  страхов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c4d2d"/>
                </a:solidFill>
                <a:latin typeface="Arial"/>
                <a:ea typeface="MS PGothic"/>
              </a:rPr>
              <a:t>     </a:t>
            </a:r>
            <a:r>
              <a:rPr b="1" lang="ru-RU" sz="2200" spc="-1" strike="noStrike">
                <a:solidFill>
                  <a:srgbClr val="3c4d2d"/>
                </a:solidFill>
                <a:latin typeface="Arial"/>
                <a:ea typeface="MS PGothic"/>
              </a:rPr>
              <a:t>Московской обл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8" descr="C:\Documents and Settings\zorina\Мои документы\Мои рисунки\logo_ТФОМС МO.JPG"/>
          <p:cNvPicPr/>
          <p:nvPr/>
        </p:nvPicPr>
        <p:blipFill>
          <a:blip r:embed="rId1"/>
          <a:stretch/>
        </p:blipFill>
        <p:spPr>
          <a:xfrm>
            <a:off x="7467480" y="33480"/>
            <a:ext cx="1298520" cy="1109520"/>
          </a:xfrm>
          <a:prstGeom prst="rect">
            <a:avLst/>
          </a:prstGeom>
          <a:ln w="0">
            <a:noFill/>
          </a:ln>
        </p:spPr>
      </p:pic>
      <p:sp>
        <p:nvSpPr>
          <p:cNvPr id="412" name="TextBox 5"/>
          <p:cNvSpPr/>
          <p:nvPr/>
        </p:nvSpPr>
        <p:spPr>
          <a:xfrm>
            <a:off x="5260320" y="62485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4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Определение персонифицированного учёта (ПУ)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9051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сонифицированный учет в системе обязательного медицинского страхования – организация и ведение учета сведений о каждом застрахованном лице в целях реализации прав граждан на бесплатное оказание медицинской помощи в рамках базовой и территориальных программ обязательного медицинского страх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акон 326-ФЗ «Об обязательном медицинском страховании в РФ», статья 4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Виды ПУ в системе ОМС</a:t>
            </a:r>
            <a:endParaRPr b="0" lang="en-US" sz="4400" spc="-1" strike="noStrike">
              <a:solidFill>
                <a:srgbClr val="444d26"/>
              </a:solidFill>
              <a:latin typeface="Calibri"/>
            </a:endParaRPr>
          </a:p>
        </p:txBody>
      </p:sp>
      <p:grpSp>
        <p:nvGrpSpPr>
          <p:cNvPr id="373" name="Organization Chart 6"/>
          <p:cNvGrpSpPr/>
          <p:nvPr/>
        </p:nvGrpSpPr>
        <p:grpSpPr>
          <a:xfrm>
            <a:off x="457200" y="1614600"/>
            <a:ext cx="8228520" cy="4494600"/>
            <a:chOff x="457200" y="1614600"/>
            <a:chExt cx="8228520" cy="4494600"/>
          </a:xfrm>
        </p:grpSpPr>
        <p:cxnSp>
          <p:nvCxnSpPr>
            <p:cNvPr id="374" name="_s1028"/>
            <p:cNvCxnSpPr>
              <a:stCxn id="375" idx="0"/>
              <a:endCxn id="376" idx="2"/>
            </p:cNvCxnSpPr>
            <p:nvPr/>
          </p:nvCxnSpPr>
          <p:spPr>
            <a:xfrm flipV="1" rot="16200000">
              <a:off x="5229360" y="2753640"/>
              <a:ext cx="899640" cy="2215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7" name="_s1029"/>
            <p:cNvCxnSpPr>
              <a:stCxn id="378" idx="0"/>
              <a:endCxn id="376" idx="2"/>
            </p:cNvCxnSpPr>
            <p:nvPr/>
          </p:nvCxnSpPr>
          <p:spPr>
            <a:xfrm flipH="1" flipV="1" rot="5400000">
              <a:off x="3013560" y="2753640"/>
              <a:ext cx="899640" cy="2216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76" name="_s1030"/>
            <p:cNvSpPr/>
            <p:nvPr/>
          </p:nvSpPr>
          <p:spPr>
            <a:xfrm>
              <a:off x="2673000" y="161460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ерсонифицированн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уч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_s1031"/>
            <p:cNvSpPr/>
            <p:nvPr/>
          </p:nvSpPr>
          <p:spPr>
            <a:xfrm>
              <a:off x="457200" y="43113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ведений о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застрахованных лица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_s1032"/>
            <p:cNvSpPr/>
            <p:nvPr/>
          </p:nvSpPr>
          <p:spPr>
            <a:xfrm>
              <a:off x="4888080" y="43113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ведений о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едицинской помощи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казанно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застрахованным лицам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Сведения о застрахованных лицах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 фамилия, имя, отчеств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 по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 дата рожд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) место рожд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) гражданств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) данные документа, удостоверяющего лич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) место жительств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) место регистра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) дата регистра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) страховой номер индивидуального лицевого счета (СНИЛС), 11) номер полиса обязательного медицинского страхования застрахованного лиц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) данные о страховой медицинской организации, выбранной застрахованным лиц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3) дата регистрации в качестве застрахованного лиц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4) статус застрахованного лица (работающий, неработающий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Сведения о медицинской помощи</a:t>
            </a:r>
            <a:endParaRPr b="0" lang="en-US" sz="4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 номер полиса обязательного медицинского страхования застрахованного лиц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 медицинская организация, оказавшая соответствующие услуг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 виды оказанной медицинской помощ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) условия оказания медицинской помощ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) сроки оказания медицинской помощ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) объемы оказанной медицинской помощ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) стоимость оказанной медицинской помощ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) диагноз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) профиль оказания медицинской помощ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) медицинские услуги, оказанные застрахованному лицу, и примененные лекарственные препарат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) примененные медико-экономических стандарт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) специальность медицинского работника, оказавшего медицинскую помощ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3) результат обращения за медицинской помощь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4) результаты проведенного контроля объемов, сроков, качества и условий предоставления медицинской помощ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44d26"/>
                </a:solidFill>
                <a:latin typeface="Calibri"/>
              </a:rPr>
              <a:t>Нормативно-правовое обеспечение информатизации ОМС</a:t>
            </a:r>
            <a:endParaRPr b="0" lang="en-US" sz="25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84" name="Text Box 12"/>
          <p:cNvSpPr/>
          <p:nvPr/>
        </p:nvSpPr>
        <p:spPr>
          <a:xfrm>
            <a:off x="1959120" y="2800440"/>
            <a:ext cx="6357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3"/>
          <p:cNvSpPr/>
          <p:nvPr/>
        </p:nvSpPr>
        <p:spPr>
          <a:xfrm>
            <a:off x="2050920" y="213372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7"/>
          <p:cNvSpPr/>
          <p:nvPr/>
        </p:nvSpPr>
        <p:spPr>
          <a:xfrm>
            <a:off x="1143000" y="1600200"/>
            <a:ext cx="7010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533520" y="1586880"/>
            <a:ext cx="8305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Calibri"/>
              </a:rPr>
              <a:t>Общие принцип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остроения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и функционирования информационных систем и порядок информационного взаимодействия в сфере обязательного медицинского страхования (приказ ФОМС от 07.04.2011  №79 (в ред. приказа ФОМС от 26.12. 2013 г. №276)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Calibri"/>
              </a:rPr>
              <a:t>Технические услов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взаимодействия автоматизированных информационных систем участников ОМС в Московской области» (приказ ТФОМС МО от 25.10.2012 № 221 в посл. ред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«ТУ – 8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Calibri"/>
              </a:rPr>
              <a:t>Организационно-технологический реглам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«Передача – приемка сводного отчета об оказанной медицинской помощи для ФЛК, сверки и идентификации по ЕРЗ и оплаты медицинской помощи, оказанной лицам, застрахованным на других территориях РФ»  «ОТР-ИВ-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Calibri"/>
              </a:rPr>
              <a:t>Регламент прикладной обработки персональных данны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застрахованных лиц при ведении персонифицированного учета медицинской помощи (Приказ Минздрава МО и ТФОМС МО от 22.04.2013 № 419/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4d26"/>
                </a:solidFill>
                <a:latin typeface="Calibri"/>
              </a:rPr>
              <a:t>Схема информационного взаимодействия по реестрам счетов</a:t>
            </a:r>
            <a:endParaRPr b="0" lang="en-US" sz="32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89" name="AutoShape 4"/>
          <p:cNvSpPr/>
          <p:nvPr/>
        </p:nvSpPr>
        <p:spPr>
          <a:xfrm>
            <a:off x="914400" y="1905120"/>
            <a:ext cx="990720" cy="914400"/>
          </a:xfrm>
          <a:prstGeom prst="flowChartProcess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352680" y="1981080"/>
            <a:ext cx="1371600" cy="1067040"/>
          </a:xfrm>
          <a:prstGeom prst="flowChartProcess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ФОМС 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6"/>
          <p:cNvSpPr/>
          <p:nvPr/>
        </p:nvSpPr>
        <p:spPr>
          <a:xfrm>
            <a:off x="6019920" y="2133720"/>
            <a:ext cx="1066680" cy="1066680"/>
          </a:xfrm>
          <a:prstGeom prst="flowChartProcess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7"/>
          <p:cNvSpPr/>
          <p:nvPr/>
        </p:nvSpPr>
        <p:spPr>
          <a:xfrm>
            <a:off x="6400800" y="3962520"/>
            <a:ext cx="914400" cy="609480"/>
          </a:xfrm>
          <a:prstGeom prst="flowChartProcess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8"/>
          <p:cNvSpPr/>
          <p:nvPr/>
        </p:nvSpPr>
        <p:spPr>
          <a:xfrm>
            <a:off x="6553080" y="4114800"/>
            <a:ext cx="914400" cy="609480"/>
          </a:xfrm>
          <a:prstGeom prst="flowChartProcess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9"/>
          <p:cNvSpPr/>
          <p:nvPr/>
        </p:nvSpPr>
        <p:spPr>
          <a:xfrm>
            <a:off x="6705720" y="4267080"/>
            <a:ext cx="914400" cy="609840"/>
          </a:xfrm>
          <a:prstGeom prst="flowChartProcess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0"/>
          <p:cNvSpPr/>
          <p:nvPr/>
        </p:nvSpPr>
        <p:spPr>
          <a:xfrm>
            <a:off x="1981080" y="3200400"/>
            <a:ext cx="1371600" cy="1295280"/>
          </a:xfrm>
          <a:prstGeom prst="flowChartMultidocument">
            <a:avLst/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ЕС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1"/>
          <p:cNvSpPr/>
          <p:nvPr/>
        </p:nvSpPr>
        <p:spPr>
          <a:xfrm rot="5400000">
            <a:off x="1004040" y="3138480"/>
            <a:ext cx="1219320" cy="733320"/>
          </a:xfrm>
          <a:custGeom>
            <a:avLst/>
            <a:gdLst>
              <a:gd name="textAreaLeft" fmla="*/ 0 w 1219320"/>
              <a:gd name="textAreaRight" fmla="*/ 1045080 w 1219320"/>
              <a:gd name="textAreaTop" fmla="*/ 488880 h 733320"/>
              <a:gd name="textAreaBottom" fmla="*/ 733680 h 7333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2"/>
          <p:cNvSpPr/>
          <p:nvPr/>
        </p:nvSpPr>
        <p:spPr>
          <a:xfrm>
            <a:off x="3429000" y="3124080"/>
            <a:ext cx="852480" cy="733680"/>
          </a:xfrm>
          <a:custGeom>
            <a:avLst/>
            <a:gdLst>
              <a:gd name="textAreaLeft" fmla="*/ 0 w 852480"/>
              <a:gd name="textAreaRight" fmla="*/ 730800 w 852480"/>
              <a:gd name="textAreaTop" fmla="*/ 489240 h 733680"/>
              <a:gd name="textAreaBottom" fmla="*/ 734040 h 733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3"/>
          <p:cNvSpPr/>
          <p:nvPr/>
        </p:nvSpPr>
        <p:spPr>
          <a:xfrm>
            <a:off x="4800600" y="2286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4"/>
          <p:cNvSpPr/>
          <p:nvPr/>
        </p:nvSpPr>
        <p:spPr>
          <a:xfrm>
            <a:off x="6372360" y="32004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5"/>
          <p:cNvSpPr/>
          <p:nvPr/>
        </p:nvSpPr>
        <p:spPr>
          <a:xfrm>
            <a:off x="5334120" y="1371600"/>
            <a:ext cx="1447560" cy="685800"/>
          </a:xfrm>
          <a:prstGeom prst="cloudCallout">
            <a:avLst>
              <a:gd name="adj1" fmla="val -25546"/>
              <a:gd name="adj2" fmla="val 88888"/>
            </a:avLst>
          </a:prstGeom>
          <a:solidFill>
            <a:srgbClr val="a5b5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ОС 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6"/>
          <p:cNvSpPr/>
          <p:nvPr/>
        </p:nvSpPr>
        <p:spPr>
          <a:xfrm>
            <a:off x="845280" y="4913280"/>
            <a:ext cx="715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ОС ПУ – Автоматизированная обработка све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ифицированного учё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 – Медицинская орг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 – страховая медицинская орг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ФОМС МО – территориальный фонд ОМС Москов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АОС ПУ медицинской помощи</a:t>
            </a:r>
            <a:endParaRPr b="0" lang="en-US" sz="44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дентификация по региональному сегменту единого регистра застрахованных лиц, определение страховой медицинской организации, ответственной за оплату сче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явление застрахованных лиц, которым оказана медицинская помощь вне территории страхования и определение их территории страхования (электронный запрос в Центральный регистр ФОМ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4d26"/>
                </a:solidFill>
                <a:latin typeface="Calibri"/>
              </a:rPr>
              <a:t>О согласии субъекта персональных данных</a:t>
            </a:r>
            <a:endParaRPr b="0" lang="en-US" sz="32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он «О персональных данных» 152-Ф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татья 6. Условия обработки персональных дан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i="1" lang="ru-RU" sz="2000" spc="-1" strike="noStrike">
                <a:solidFill>
                  <a:srgbClr val="7f6f6f"/>
                </a:solidFill>
                <a:latin typeface="Calibri"/>
              </a:rPr>
              <a:t>Согласия субъекта персональных данных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предусмотренного частью 1 настоящей статьи, </a:t>
            </a:r>
            <a:r>
              <a:rPr b="0" i="1" lang="ru-RU" sz="2000" spc="-1" strike="noStrike">
                <a:solidFill>
                  <a:srgbClr val="7f6f6f"/>
                </a:solidFill>
                <a:latin typeface="Calibri"/>
              </a:rPr>
              <a:t>не требуется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в следующих случаях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1) обработка персональных данных осуществляется на основании </a:t>
            </a:r>
            <a:r>
              <a:rPr b="0" i="1" lang="ru-RU" sz="2000" spc="-1" strike="noStrike">
                <a:solidFill>
                  <a:srgbClr val="7f6f6f"/>
                </a:solidFill>
                <a:latin typeface="Calibri"/>
              </a:rPr>
              <a:t>федерального закон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устанавливающего ее цель, условия получения персональных данных и круг субъектов, персональные данные которых подлежат обработке, а также определяющего полномочия операто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5257800" y="5715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6-Ф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6"/>
          <p:cNvSpPr/>
          <p:nvPr/>
        </p:nvSpPr>
        <p:spPr>
          <a:xfrm rot="19485600">
            <a:off x="4381200" y="4105440"/>
            <a:ext cx="485640" cy="1904760"/>
          </a:xfrm>
          <a:prstGeom prst="upArrow">
            <a:avLst>
              <a:gd name="adj1" fmla="val 50000"/>
              <a:gd name="adj2" fmla="val 98054"/>
            </a:avLst>
          </a:prstGeom>
          <a:solidFill>
            <a:srgbClr val="a5b592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овгородцев Виктор Михайлович</dc:creator>
  <dc:description/>
  <dc:language>en-US</dc:language>
  <cp:lastModifiedBy>novgorodcev</cp:lastModifiedBy>
  <dcterms:modified xsi:type="dcterms:W3CDTF">2014-10-28T08:59:2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